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62F-1C7C-4BE8-8F7E-933332EB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C3B-ABA0-479D-841B-33FB64F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1CB26-0D67-4E03-ABF0-3CD3B0D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B0C1B-FA89-44EF-AB7A-1AC81545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28155-59B2-41E3-B4DA-865C0E1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0E736-D591-42BA-84B0-689AC9B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107EB-D712-4704-BAF9-416D270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47217-4CAF-469B-8D6F-43CE7C7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1BB9F-36B5-41A5-911C-63884EAA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4CAF6-75F2-4331-AED4-89B79049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3369E-BA78-4142-8333-10D9AF33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520F38-047C-429E-AAC3-8CE28023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514-1EC3-4E54-9AD7-7142AAAE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7646A-B932-4E92-B7E7-8E176D64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A2F16-135A-42D3-82A9-29E85744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87545-C32C-4337-BB5A-C70F31D4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F6D13-BA1E-4D93-A0B2-D20F7F0F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4960D-A5AD-45CD-B706-F6E59624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FAA13-C79F-4B07-87F3-2C05623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8249E-2E19-4FCF-97FC-EA91515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F3243-F622-4905-BBB7-9B66654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8D463-CFF0-4BA1-90C7-4E40302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3F4FA-1BA6-4847-BEF4-12C09263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82D-2FF1-4750-B393-809CAE42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A43D5-E6B2-406D-9D31-6020F158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3E7C6-D34D-4508-81EF-C49F0E22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9C81-000A-48E6-8278-A8FE8457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0DCE2-9A22-419E-AD32-2FA912A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DDABB-366E-4B6E-8167-47212B0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7ACF-A4CC-4471-B612-43D3AC76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50D24-687A-444C-AA0F-E9967664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C2728-6259-4BA1-9F46-C237BDA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712B-52F8-4E0B-B8C1-2595C10D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F734-A60C-4B23-A13B-E0DB7A1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0986-5A60-41E8-AEB6-4A0DB926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84165-7F29-49AF-81DC-3F6A8915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0932C-642B-43BD-ACC6-702F1EFE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84377-01DD-4861-AF49-F027F1F6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5BD8B-8DC9-4633-B946-9AD7D5C7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93BA9-E1E1-48BA-9ECD-2612FA86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B3C76-F3D9-474E-9275-94C4601D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DAC1B-E49A-4240-8C5B-3B84AB05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DE89A-2A44-48F8-8498-CAA2817C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7B8BF-E883-498E-A8B1-2FD9BF8C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20BBE-D184-4657-99E3-93E95E4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68EC-9335-42DE-9D94-C84B34FC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9BF19-F487-4F18-8B45-6F0398D5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ABC2F-895A-4AF1-BFC7-2D45C83B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7966F-98C8-4DBB-9091-31DC8577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C7383-F4B9-4FD7-A092-69E002B4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E9897-92B5-4061-BD31-7C30CC84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1044-AC98-48B5-B329-A8C82A99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9CB5-7421-4E90-AC9D-3EACB974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718-7B96-40CE-85FF-7D16621C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090F-E1AA-49CC-A69F-B52AF64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FD15-D15E-49AB-9453-46964EF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A60-FC4A-41E0-89EF-48162388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2604-1759-43C9-8E0A-5934CBA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703C-F97C-4D2C-8D5E-CD7DA00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4F24-32F1-4D4F-8EFB-721EC03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CD70-FA90-4268-BAAF-9AE3B5E5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7103-649F-460C-B598-F2BC9E6B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BAB7-05A1-4403-8121-E3455974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2F54-F902-469F-9BAC-1A32E76C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BC9B-BA6A-4810-B9BB-9CA7BD0C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DF92-E714-4AE3-98F1-0FF5D79D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B1F6-CF53-43A4-B54A-818350A6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9DC-0D95-4484-96CE-B73EE21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BB96-5587-4034-A661-05A11BC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B95D-A629-4BDE-BA6E-D78106D8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DCFD-FFD4-4DB1-B6F4-EBE05AB5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E778-7D5B-4F46-960A-AE976E67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39BD-CBC4-4B32-9308-22EE10A5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DEA2-57BE-4DC2-96C5-050BB54A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1AF9-696D-4B58-83DB-3437A4F0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A4B7-9880-4FEE-9394-0E1DAF86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7783-128A-4E09-98A3-DC3F8EF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9917-F891-4CAA-9C8B-10C3DB96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D2B-8B80-4DA7-8311-757FBCD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ABC8-4247-4984-B681-489F16CF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179C-FAFD-46BC-9E1D-FD830336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9C0C7-4CB4-4F42-AC05-203BE173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A5D09-2C7B-4995-9AE9-BDFE797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2CD29-74E4-4E85-A6AD-77A56F3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8CD0-C61B-4AA1-8091-3AA21CDE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B904F-0744-4319-A258-301FE096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FA49-097F-47D3-9917-92EF8D6A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D2F8-501C-4853-88E1-771D3712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3DA6-142B-471A-B047-9AE21621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B64-EFFA-4FD8-97EA-3189E188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17A2-981B-4960-B36B-E5F46ABB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C9E88-FEEE-420B-917F-ACBFAD9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B605-0D8D-4ADA-B98A-9AA002E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00F9-4045-469A-9F78-E8E19D7F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4BC0E-99FC-4662-A649-1C2FADE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4B6C-2059-485F-A986-8A28E1D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4B56-9FDD-4200-828D-AC1FC32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B887-8E65-4D26-8106-910F467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0DB3-93BD-4069-95C3-28D21418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BFA2C-23A5-4158-AD53-66A2D824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473-21DC-4DDF-AE6E-8B90DBE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5625C-8F7C-4685-8FB5-7CC52F60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8F143-59F9-4E48-A4A4-4B606A8C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BE657-0EF9-43D3-9F68-CC09B36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D1FC-E4B0-4144-A0A9-1926DA09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3C061-251B-4AEE-99F0-73A676B4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1E16-7011-448D-9479-B08397A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01B8-B436-41D4-9C7F-55725A41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77508-0A0E-4A80-8EFD-96BAE4E2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65420-40D6-4CF4-809D-CF56588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A6202-97E7-497C-AD8D-F2E92522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76E-8B75-484F-BF53-9429A60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2378-D2A6-4A94-ACB8-23329301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64223-89D9-44D7-9EAC-9058CB96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E568-AA8B-419E-87D3-C4175A33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943D5-0356-407E-9202-503B6B50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E229A-484E-4DB5-BC00-31B8EFD7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BD2C9-909A-4907-B77B-F7DB1DC2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DA987-5A5D-458E-82FE-82C3CD1E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DBE2-C70D-47D9-B842-0DDF98F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322C-95C7-4382-BCC8-C926D615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03B9-DBE3-46DD-A579-92B0BBEC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222-1E52-48E0-9D9A-FF7B64E6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57C85-54DB-4DAA-9A72-F46916B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4AD1-B097-4A6B-89FD-558E803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DC19D-7D52-4D80-AD08-EBD7296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7AB1A-6EC1-4645-BDFF-5EAEFDE3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4CCA-C7B5-4E42-B82E-FA5C8A16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36B4B-E965-4152-96A7-946C58CD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3EB3-A9F8-4291-8370-3743637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969B5-7893-4847-A843-BBDE3660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6E6F9-968C-43E7-8FC3-70112855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B6CF-7DE7-4C45-BD30-17F22CD4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12B-EEDA-46F8-8AA8-7E929A4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AFD93-BB3D-4110-9156-27CD79EB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A7280-AC5B-4A64-91F7-26ED8EC3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7F79-6DF8-4C29-B501-DF1E6B3B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56ECE-A774-43B3-A323-AAF8800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530E-08D6-4EDD-9DDD-63D719D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B9025-85F0-421C-87ED-CA1F93A1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A03BA-6B92-4DB1-B8FB-56070076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BFF5A-C235-484A-BF0F-EAC94D8D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1C40A-D38A-48DD-BD7B-2F5BBF0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06C09-89DC-4877-9BB7-20B879A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6D00-DC1D-4684-A5D8-6F7D00A50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222-714D-4E69-890D-89D930E94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B702-227E-4F05-97B8-2C223A2DB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1B18-56CE-407D-8B6A-FB612C311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481-C9F6-4914-ACAD-E8B9F4197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FD58-2316-4038-B2B2-9A1643FBE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8B77-BB73-4309-8D3F-D3EBEA589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5461-A134-47A8-8196-C49D1F14F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B3F4-4C16-4088-B6BB-079F41928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1C5-9A1C-4145-B2B0-D4FE704C3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A306-74AC-48A0-943F-A46C527D08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CDCA-2263-4083-B917-6D584F23F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al Reas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192240" y="2193840"/>
            <a:ext cx="87231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duce Expressions for Physical Phenomen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xampl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 What is the period of oscillation for a pendulum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438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less Quantit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mensional quantities can be made “dimensionless” by “normalizing” with respect to another dimensional quantity of the same dimensiona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ercentages are non-dimensional numb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trai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ach nu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efficient of restitu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ynold’s number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9" name="Picture 2" descr="http://upload.wikimedia.org/wikipedia/commons/thumb/3/3c/Bouncing_ball_strobe_edit.jpg/350px-Bouncing_ball_strobe_edit.jpg"/>
          <p:cNvPicPr/>
          <p:nvPr/>
        </p:nvPicPr>
        <p:blipFill>
          <a:blip r:embed="rId1"/>
          <a:stretch/>
        </p:blipFill>
        <p:spPr>
          <a:xfrm>
            <a:off x="6477120" y="5105520"/>
            <a:ext cx="2133360" cy="13716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http://wings.avkids.com/Book/Flight/Images/airfoil.jpg"/>
          <p:cNvPicPr/>
          <p:nvPr/>
        </p:nvPicPr>
        <p:blipFill>
          <a:blip r:embed="rId2"/>
          <a:stretch/>
        </p:blipFill>
        <p:spPr>
          <a:xfrm>
            <a:off x="3962520" y="48769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http://upload.wikimedia.org/wikipedia/commons/thumb/d/d0/FA-18_Hornet_breaking_sound_barrier_%287_July_1999%29.jpg/300px-FA-18_Hornet_breaking_sound_barrier_%287_July_1999%29.jpg"/>
          <p:cNvPicPr/>
          <p:nvPr/>
        </p:nvPicPr>
        <p:blipFill>
          <a:blip r:embed="rId3"/>
          <a:srcRect l="0" t="14018" r="20000" b="0"/>
          <a:stretch/>
        </p:blipFill>
        <p:spPr>
          <a:xfrm>
            <a:off x="6400800" y="320040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aling and Model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st large objects by building smaller mode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Movie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models with scaled dimensions and scaled dynamic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Fluid dynamic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rather than studying an infinite number of pipes, understand one size very well and everything follow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Aeronautics/automotive industry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: can test properties of full sized cars by building exact scaled mode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4" name="Picture 2" descr="http://www.wetanz.com/assets/Uploads/ModelsMinis-5.jpg"/>
          <p:cNvPicPr/>
          <p:nvPr/>
        </p:nvPicPr>
        <p:blipFill>
          <a:blip r:embed="rId1"/>
          <a:stretch/>
        </p:blipFill>
        <p:spPr>
          <a:xfrm>
            <a:off x="204840" y="4419720"/>
            <a:ext cx="3376440" cy="1752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http://www.wetanz.com/assets/Uploads/ModelsMinis.jpg"/>
          <p:cNvPicPr/>
          <p:nvPr/>
        </p:nvPicPr>
        <p:blipFill>
          <a:blip r:embed="rId2"/>
          <a:stretch/>
        </p:blipFill>
        <p:spPr>
          <a:xfrm>
            <a:off x="5562720" y="4419720"/>
            <a:ext cx="3340080" cy="173340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6"/>
          <p:cNvSpPr/>
          <p:nvPr/>
        </p:nvSpPr>
        <p:spPr>
          <a:xfrm>
            <a:off x="0" y="65199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/www.wetanz.com/models-miniat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colorado.edu/aerospace/vs_focus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8" descr="Lawrence with model planes"/>
          <p:cNvPicPr/>
          <p:nvPr/>
        </p:nvPicPr>
        <p:blipFill>
          <a:blip r:embed="rId3"/>
          <a:stretch/>
        </p:blipFill>
        <p:spPr>
          <a:xfrm>
            <a:off x="3724200" y="4038480"/>
            <a:ext cx="1762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al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172880" y="2285640"/>
            <a:ext cx="75135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Exothermic reaction problem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What’s the biggest elephant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ought Experi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would life be like on different planets?  For example, on the moon with 1/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the grav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would people look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would bridges be differen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would landscapes be differen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map of Lake Tahoe"/>
          <p:cNvPicPr/>
          <p:nvPr/>
        </p:nvPicPr>
        <p:blipFill>
          <a:blip r:embed="rId1"/>
          <a:stretch/>
        </p:blipFill>
        <p:spPr>
          <a:xfrm>
            <a:off x="152280" y="914400"/>
            <a:ext cx="5565960" cy="5870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File:Lake Tahoe NV.jpg"/>
          <p:cNvPicPr/>
          <p:nvPr/>
        </p:nvPicPr>
        <p:blipFill>
          <a:blip r:embed="rId2"/>
          <a:stretch/>
        </p:blipFill>
        <p:spPr>
          <a:xfrm>
            <a:off x="5791320" y="25718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many gallons are in Lake Taho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al Reas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asurements are meaningless without the correct use of un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Georgia"/>
              </a:rPr>
              <a:t>Example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: “the distance from my house to school is two”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Dimens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bstract quality of measurement without scale (i.e. length, time, mas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an understand the physics of a problem by analyzing dimension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3440" indent="-25344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quality of a number which specifies a previously agreed upon scale (i.e. meters, seconds, gram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I and English unit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09040" indent="-253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mi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most all units can be decomposed into 3 fundamental dimension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examples of units are in SI units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ass: M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kilogram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kg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ngth: L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meter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m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ime: T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second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also have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uminosity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candela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cd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lectrical current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Amper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mount of material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.e.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mol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or mo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rived Units (partial list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371240" y="1905120"/>
            <a:ext cx="74343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rc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newto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N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M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kg/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nergy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joule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J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kg/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ressure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ascal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Pa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L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kg/(m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)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wer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att 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W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3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m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i="1" lang="en-US" sz="1900" spc="-1" strike="noStrike">
                <a:solidFill>
                  <a:srgbClr val="646b86"/>
                </a:solidFill>
                <a:latin typeface="Georgia"/>
              </a:rPr>
              <a:t>kg/s</a:t>
            </a:r>
            <a:r>
              <a:rPr b="0" i="1" lang="en-US" sz="1900" spc="-1" strike="noStrike" baseline="30000">
                <a:solidFill>
                  <a:srgbClr val="646b86"/>
                </a:solidFill>
                <a:latin typeface="Georgia"/>
              </a:rPr>
              <a:t>3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Velocit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/T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s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cceler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L/T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m/s</a:t>
            </a:r>
            <a:r>
              <a:rPr b="0" lang="en-US" sz="1900" spc="-1" strike="noStrike" baseline="30000">
                <a:solidFill>
                  <a:srgbClr val="646b86"/>
                </a:solidFill>
                <a:latin typeface="Georgia"/>
              </a:rPr>
              <a:t>2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imensional Analysi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ll terms in an equation must reduce to identical primitive dimension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imensions can be algebraically manipulate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Georgia"/>
              </a:rPr>
              <a:t>examples: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Used to check consistency of equation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an determine the dimensions of coefficients using dimensional analysi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2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b86"/>
                </a:solidFill>
                <a:latin typeface="Georgia"/>
              </a:rPr>
              <a:t>Three equations that describe transport of “stuff”</a:t>
            </a:r>
            <a:endParaRPr b="0" lang="en-US" sz="17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port of momentu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port of hea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port of materia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7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371600" cy="7686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9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0" descr=""/>
          <p:cNvPicPr/>
          <p:nvPr/>
        </p:nvPicPr>
        <p:blipFill>
          <a:blip r:embed="rId2"/>
          <a:stretch/>
        </p:blipFill>
        <p:spPr>
          <a:xfrm>
            <a:off x="4735440" y="2895480"/>
            <a:ext cx="2960640" cy="84780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2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ting Dimen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versions between measurement systems can be accommodated through relationships between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1: convert 3m to c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2:  95mph fastball; how fast is this in m/s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 mile = 160934.4 c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ting Dimen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versions between measurement systems can be accommodated through relationships between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1: convert 3m to c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2:  95mph fastball; how fast is this in m/s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3:  One light-year is the distance that light travels in exactly one year.  If the speed of light is 6.7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ph, convert light-years to: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. mi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. met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1 mi = 160934.4 c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verting Dimens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Conversions between measurement systems can be accommodated through relationships between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1: convert 3m to c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2:  95mph fastball; how fast is this in m/s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 3:  One light-year is the distance that light travels in exactly one year.  If the speed of light is 6.7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mph, convert light-years to: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772560" indent="-2145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. mil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72560" indent="-2145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. meter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72560" indent="-2145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rithmetic manipulations can take place only with identical unit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4440" indent="-25632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ample: 3m + 2cm = ?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6:39:48Z</dcterms:created>
  <dc:creator>Office 2004 Test Drive User</dc:creator>
  <dc:description/>
  <dc:language>en-US</dc:language>
  <cp:lastModifiedBy>Su</cp:lastModifiedBy>
  <dcterms:modified xsi:type="dcterms:W3CDTF">2009-07-06T16:44:04Z</dcterms:modified>
  <cp:revision>8</cp:revision>
  <dc:subject/>
  <dc:title>Dimensional Reasoning</dc:title>
</cp:coreProperties>
</file>